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572-D67C-491B-B1E9-5DE352BA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1ED-5CBC-44B8-9465-40A67A42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2E1-3536-4013-9AD9-E6DC6379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B91-9F14-4444-9A8D-295E9AFD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7A0-BFC1-4AFC-827C-A2C4CF66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924-A02D-45A1-BF34-9BFC0D9B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0F8-CE54-4705-874A-32E34619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DD8-0D20-40AA-BD09-FC760E23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40A-74BB-4FAA-8E26-B199F6D9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E6D-7775-41EE-8671-4F902F86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81A-1847-444B-AA8F-2004C7D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C34-0F6D-4A88-8503-0642909B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4E8E-194D-4104-9FEE-D7469C394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ner"/>
              </a:rPr>
              <a:t>Nonlinguistic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h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ents’ ability to represent and elaborate on knowledge using mental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, pictures, graphic organizers, kinesthetic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281400" cy="441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43200" y="5638680"/>
            <a:ext cx="61722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37:51Z</dcterms:created>
  <dc:creator>workstation</dc:creator>
  <dc:description/>
  <dc:language>en-US</dc:language>
  <cp:lastModifiedBy>workstation</cp:lastModifiedBy>
  <dcterms:modified xsi:type="dcterms:W3CDTF">2010-08-03T14:52:33Z</dcterms:modified>
  <cp:revision>2</cp:revision>
  <dc:subject/>
  <dc:title>Nonlinguistic Representation</dc:title>
</cp:coreProperties>
</file>